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44E-C2D5-4CC5-9A0B-6B53FA32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83E-6D70-469C-AE9A-20DF49A3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EC3-E2DB-497E-AC3C-DBC5B86B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BDF-493B-44FD-AC1B-B66DA24F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051-4C73-46B1-A04C-8C1AED8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3DB-5457-49A9-9392-61BFD110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243-15D6-482E-927A-E6CE7D66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226-18BC-4CEA-9F36-3787702F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BB6-0112-4E6C-8720-830F4FFC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FAE-99FA-4938-9A20-8E133715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024-4DDF-4267-98C7-53195553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B2E-A52E-4B39-94A6-D2105B2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1500"/>
              </a:spcBef>
              <a:buClr>
                <a:srgbClr val="80008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Click to edit the outline text format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1" marL="386280" indent="-148320">
              <a:spcBef>
                <a:spcPts val="1500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Second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2" marL="594360" indent="-118800"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Third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3" marL="831960" indent="-118800">
              <a:spcBef>
                <a:spcPts val="1500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Fourth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4" marL="1069560" indent="-1188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Fifth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5" marL="1069560" indent="-1188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Sixth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  <a:p>
            <a:pPr lvl="6" marL="1069560" indent="-1188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erlin Sans FB Demi"/>
              </a:rPr>
              <a:t>Seventh Outline Level</a:t>
            </a:r>
            <a:endParaRPr b="1" lang="en-US" sz="60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478B-37CD-45B4-A634-2F6D15542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hyperlink" Target="http://images.google.co.uk/imgres?imgurl=http://pages.eidosnet.co.uk/pobotrol/lazybig.JPG&amp;imgrefurl=http://pages.eidosnet.co.uk/pobotrol/wholazy.htm&amp;h=205&amp;w=269&amp;sz=14&amp;tbnid=3z91UW-KGE0J:&amp;tbnh=82&amp;tbnw=108&amp;start=1&amp;prev=/images%3Fq%3DMr%2BLazy%26hl%3Den%26lr%3D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image" Target="../media/image17.png"/><Relationship Id="rId8" Type="http://schemas.openxmlformats.org/officeDocument/2006/relationships/image" Target="../media/image11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pages.eidosnet.co.uk/pobotrol/lazybig.JPG&amp;imgrefurl=http://pages.eidosnet.co.uk/pobotrol/wholazy.htm&amp;h=205&amp;w=269&amp;sz=14&amp;tbnid=3z91UW-KGE0J:&amp;tbnh=82&amp;tbnw=108&amp;start=1&amp;prev=/images%3Fq%3DMr%2BLazy%26hl%3Den%26lr%3D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nternatedns.co.uk/family-assurance/_email/mr_chatterbox.gif&amp;imgrefurl=http://www.internatedns.co.uk/family-assurance/_email/email.htm&amp;h=221&amp;w=191&amp;sz=6&amp;tbnid=U1eEKjGQIvAJ:&amp;tbnh=102&amp;tbnw=88&amp;start=1&amp;prev=/images%3Fq%3DMr%2Bchatterbox%26hl%3Den%26lr%3D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3000" indent="-114300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Berlin Sans FB Dem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Berlin Sans FB Demi"/>
              </a:rPr>
              <a:t>To learn how to describe people’s characters</a:t>
            </a:r>
            <a:endParaRPr b="1" lang="en-US" sz="2800" spc="-1" strike="noStrike">
              <a:solidFill>
                <a:srgbClr val="800080"/>
              </a:solidFill>
              <a:latin typeface="Berlin Sans FB Demi"/>
            </a:endParaRPr>
          </a:p>
          <a:p>
            <a:pPr marL="1143000" indent="-114300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Berlin Sans FB Dem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Berlin Sans FB Demi"/>
              </a:rPr>
              <a:t>to learn the verb “ser” to describe different people</a:t>
            </a:r>
            <a:endParaRPr b="1" lang="en-US" sz="2800" spc="-1" strike="noStrike">
              <a:solidFill>
                <a:srgbClr val="800080"/>
              </a:solidFill>
              <a:latin typeface="Berlin Sans FB Demi"/>
            </a:endParaRPr>
          </a:p>
          <a:p>
            <a:pPr marL="1143000" indent="-114300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Berlin Sans FB Dem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Berlin Sans FB Demi"/>
              </a:rPr>
              <a:t>to play a dice game to form phrases to describe people</a:t>
            </a:r>
            <a:endParaRPr b="1" lang="en-US" sz="2800" spc="-1" strike="noStrike">
              <a:solidFill>
                <a:srgbClr val="800080"/>
              </a:solidFill>
              <a:latin typeface="Berlin Sans FB Demi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476280"/>
            <a:ext cx="45370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00720" y="1197000"/>
            <a:ext cx="316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ñor fastidi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371628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 fastidios</a:t>
            </a:r>
            <a:r>
              <a:rPr b="0" lang="en-US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2316240" cy="245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2741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5640" y="83664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No) Me llevo bien con mi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19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r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314172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… timido / diverti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472428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No) me gusta mi… porque 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5640" y="907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7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708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220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386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3284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4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1773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2205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You are (singul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2781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He is /she is /you are (pol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328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789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You are (pl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4365720"/>
            <a:ext cx="44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hey are (m or f) / you (plural, pol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98100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To 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661000"/>
            <a:ext cx="5975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fastidios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734080"/>
            <a:ext cx="5975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Mis amigos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Comic Sans MS"/>
              </a:rPr>
              <a:t>son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divertid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950080"/>
            <a:ext cx="5975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Mis amigos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Comic Sans MS"/>
              </a:rPr>
              <a:t>son</a:t>
            </a: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 divertid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5734080"/>
            <a:ext cx="5975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Eres muy chismos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2349360"/>
            <a:ext cx="3600360" cy="402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y s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y m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y 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y bro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y par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2349360"/>
            <a:ext cx="3600360" cy="402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nnoy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funn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sh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laz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hat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89000"/>
            <a:ext cx="82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Write the full sentence out, in Spanish, according to the 2 dice thr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on’t forget the verb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on’t forget the agreements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5547" r="0" b="0"/>
          <a:stretch/>
        </p:blipFill>
        <p:spPr>
          <a:xfrm>
            <a:off x="533520" y="304920"/>
            <a:ext cx="1734840" cy="2547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2016000" cy="2190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83956" t="67023" r="9879" b="16054"/>
          <a:stretch/>
        </p:blipFill>
        <p:spPr>
          <a:xfrm>
            <a:off x="2484360" y="260280"/>
            <a:ext cx="1727280" cy="2637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3500280"/>
            <a:ext cx="158436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164360" y="3500280"/>
            <a:ext cx="1979640" cy="237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Little Miss Somersault"/>
          <p:cNvPicPr/>
          <p:nvPr/>
        </p:nvPicPr>
        <p:blipFill>
          <a:blip r:embed="rId7"/>
          <a:stretch/>
        </p:blipFill>
        <p:spPr>
          <a:xfrm>
            <a:off x="6659640" y="404640"/>
            <a:ext cx="1944720" cy="239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427640" y="404640"/>
            <a:ext cx="1981080" cy="252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5508720" y="3500280"/>
            <a:ext cx="1655640" cy="2233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3635280" y="3500280"/>
            <a:ext cx="1871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1426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800080"/>
                </a:solidFill>
                <a:latin typeface="Berlin Sans FB Demi"/>
              </a:rPr>
              <a:t>Los peque</a:t>
            </a:r>
            <a:r>
              <a:rPr b="1" lang="en-US" sz="7200" spc="-1" strike="noStrike">
                <a:solidFill>
                  <a:srgbClr val="800080"/>
                </a:solidFill>
                <a:latin typeface="Berlin Sans FB Demi"/>
              </a:rPr>
              <a:t>ños </a:t>
            </a:r>
            <a:r>
              <a:rPr b="1" lang="en-GB" sz="7200" spc="-1" strike="noStrike">
                <a:solidFill>
                  <a:srgbClr val="800080"/>
                </a:solidFill>
                <a:latin typeface="Berlin Sans FB Demi"/>
              </a:rPr>
              <a:t>se</a:t>
            </a:r>
            <a:r>
              <a:rPr b="1" lang="en-US" sz="7200" spc="-1" strike="noStrike">
                <a:solidFill>
                  <a:srgbClr val="800080"/>
                </a:solidFill>
                <a:latin typeface="Berlin Sans FB Demi"/>
              </a:rPr>
              <a:t>ñores y las pequeñas señoras</a:t>
            </a:r>
            <a:endParaRPr b="1" lang="en-US" sz="7200" spc="-1" strike="noStrike">
              <a:solidFill>
                <a:srgbClr val="800080"/>
              </a:solidFill>
              <a:latin typeface="Berlin Sans FB Dem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Little Miss Chatterbox Picture"/>
          <p:cNvPicPr/>
          <p:nvPr/>
        </p:nvPicPr>
        <p:blipFill>
          <a:blip r:embed="rId1"/>
          <a:stretch/>
        </p:blipFill>
        <p:spPr>
          <a:xfrm>
            <a:off x="324000" y="3675240"/>
            <a:ext cx="3809880" cy="3182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8320" y="3962520"/>
            <a:ext cx="3809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 chismos</a:t>
            </a:r>
            <a:r>
              <a:rPr b="0" lang="en-US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5547" r="0" b="0"/>
          <a:stretch/>
        </p:blipFill>
        <p:spPr>
          <a:xfrm>
            <a:off x="533520" y="3049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67080" y="609480"/>
            <a:ext cx="4191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 chism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6262" r="0" b="0"/>
          <a:stretch/>
        </p:blipFill>
        <p:spPr>
          <a:xfrm>
            <a:off x="1066680" y="685800"/>
            <a:ext cx="203220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914400"/>
            <a:ext cx="3810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conten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2590920" cy="219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4114800"/>
            <a:ext cx="3810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content</a:t>
            </a:r>
            <a:r>
              <a:rPr b="0" lang="en-GB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timido</a:t>
            </a:r>
            <a:endParaRPr b="1" lang="en-US" sz="5400" spc="-1" strike="noStrike">
              <a:solidFill>
                <a:srgbClr val="800080"/>
              </a:solidFill>
              <a:latin typeface="Berlin Sans FB Dem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00080"/>
              </a:solidFill>
              <a:latin typeface="Berlin Sans FB Dem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timid</a:t>
            </a:r>
            <a:r>
              <a:rPr b="0" lang="en-GB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1" lang="en-US" sz="5400" spc="-1" strike="noStrike">
              <a:solidFill>
                <a:srgbClr val="800080"/>
              </a:solidFill>
              <a:latin typeface="Berlin Sans FB Demi"/>
            </a:endParaRPr>
          </a:p>
        </p:txBody>
      </p:sp>
      <p:pic>
        <p:nvPicPr>
          <p:cNvPr id="54" name="" descr="Little Miss Shy Picture"/>
          <p:cNvPicPr/>
          <p:nvPr/>
        </p:nvPicPr>
        <p:blipFill>
          <a:blip r:embed="rId1"/>
          <a:stretch/>
        </p:blipFill>
        <p:spPr>
          <a:xfrm>
            <a:off x="609480" y="297180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83956" t="67023" r="9879" b="16054"/>
          <a:stretch/>
        </p:blipFill>
        <p:spPr>
          <a:xfrm>
            <a:off x="990720" y="533520"/>
            <a:ext cx="26445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907920"/>
            <a:ext cx="2879640" cy="2305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40360" y="1052640"/>
            <a:ext cx="45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765000"/>
            <a:ext cx="460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perez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22100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perezos</a:t>
            </a:r>
            <a:r>
              <a:rPr b="0" lang="en-GB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Little Miss Greedy"/>
          <p:cNvPicPr/>
          <p:nvPr/>
        </p:nvPicPr>
        <p:blipFill>
          <a:blip r:embed="rId3"/>
          <a:stretch/>
        </p:blipFill>
        <p:spPr>
          <a:xfrm>
            <a:off x="826920" y="3860640"/>
            <a:ext cx="3095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0" y="76500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 diverti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836640"/>
            <a:ext cx="3167280" cy="273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356000" y="414972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</a:t>
            </a: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 divertid</a:t>
            </a:r>
            <a:r>
              <a:rPr b="0" lang="en-GB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Little Miss Chatterbox"/>
          <p:cNvPicPr/>
          <p:nvPr/>
        </p:nvPicPr>
        <p:blipFill>
          <a:blip r:embed="rId3"/>
          <a:stretch/>
        </p:blipFill>
        <p:spPr>
          <a:xfrm>
            <a:off x="971640" y="4005360"/>
            <a:ext cx="3024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5640" y="836640"/>
            <a:ext cx="24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549360"/>
            <a:ext cx="2449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1981080" cy="201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1886040" cy="1990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11640" y="98100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ñor suc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364500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ñora suci</a:t>
            </a:r>
            <a:r>
              <a:rPr b="0" lang="en-US" sz="5400" spc="-1" strike="noStrike">
                <a:solidFill>
                  <a:srgbClr val="ff3300"/>
                </a:solidFill>
                <a:latin typeface="Berlin Sans FB Demi"/>
                <a:ea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448000" cy="187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00720" y="1197000"/>
            <a:ext cx="316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ñor cariñ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371628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erlin Sans FB Demi"/>
              </a:rPr>
              <a:t>Se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ñora cariños</a:t>
            </a:r>
            <a:r>
              <a:rPr b="0" lang="en-US" sz="5400" spc="-1" strike="noStrike">
                <a:solidFill>
                  <a:srgbClr val="ff3300"/>
                </a:solidFill>
                <a:latin typeface="Berlin Sans FB Demi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9:55:31Z</dcterms:created>
  <dc:creator>R Parker</dc:creator>
  <dc:description/>
  <dc:language>en-US</dc:language>
  <cp:lastModifiedBy>Owner1</cp:lastModifiedBy>
  <dcterms:modified xsi:type="dcterms:W3CDTF">2008-12-06T08:10:07Z</dcterms:modified>
  <cp:revision>17</cp:revision>
  <dc:subject/>
  <dc:title>PowerPoint Presentation</dc:title>
</cp:coreProperties>
</file>